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3C88-2B66-4162-BDF2-B0062A629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7093-DDC8-456C-A96B-DAA4AE86A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E125-667C-480E-8F8C-438824D10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2C5D-9AE2-4FC3-8A3E-58C6A0A9B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8353-347E-4DBC-A6A5-83804ACD7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D51B-96CE-440F-8D1D-2747FA6C0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DF04-C211-4D3D-95B2-461D8E5DD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AC3F-B560-4E25-8E70-5C3FF1608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CA99-2EDD-403E-916E-92277DD7C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76F3-0DCE-49C4-A394-DD4720AA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E7E6-EB9B-4951-9A5A-B2775F2F2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A3C0-1D9B-42BC-8732-17596AE25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79031-1B3A-421B-88D7-2F54E5DF95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042920" y="490680"/>
            <a:ext cx="5607000" cy="5878800"/>
            <a:chOff x="1042920" y="490680"/>
            <a:chExt cx="5607000" cy="5878800"/>
          </a:xfrm>
        </p:grpSpPr>
        <p:sp>
          <p:nvSpPr>
            <p:cNvPr id="42" name=""/>
            <p:cNvSpPr/>
            <p:nvPr/>
          </p:nvSpPr>
          <p:spPr>
            <a:xfrm>
              <a:off x="2901960" y="490680"/>
              <a:ext cx="2835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2000" spc="-1" strike="noStrike">
                  <a:solidFill>
                    <a:srgbClr val="000000"/>
                  </a:solidFill>
                  <a:latin typeface="Arial"/>
                </a:rPr>
                <a:t>Glycine + Succinyl Co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819160" y="1425600"/>
              <a:ext cx="255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fi-FI" sz="2000" spc="-1" strike="noStrike">
                  <a:solidFill>
                    <a:srgbClr val="000000"/>
                  </a:solidFill>
                  <a:latin typeface="Arial"/>
                </a:rPr>
                <a:t>-Aminolevulinic ac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663360" y="3112920"/>
              <a:ext cx="8740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2000" spc="-1" strike="noStrike">
                  <a:solidFill>
                    <a:srgbClr val="000000"/>
                  </a:solidFill>
                  <a:latin typeface="Arial"/>
                </a:rPr>
                <a:t>He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597480" y="4024080"/>
              <a:ext cx="121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2000" spc="-1" strike="noStrike">
                  <a:solidFill>
                    <a:srgbClr val="000000"/>
                  </a:solidFill>
                  <a:latin typeface="Arial"/>
                </a:rPr>
                <a:t>Biliverd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628080" y="4908240"/>
              <a:ext cx="108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2000" spc="-1" strike="noStrike">
                  <a:solidFill>
                    <a:srgbClr val="000000"/>
                  </a:solidFill>
                  <a:latin typeface="Arial"/>
                </a:rPr>
                <a:t>Bilirub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904120" y="5665680"/>
              <a:ext cx="2672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2000" spc="-1" strike="noStrike">
                  <a:solidFill>
                    <a:srgbClr val="000000"/>
                  </a:solidFill>
                  <a:latin typeface="Arial"/>
                </a:rPr>
                <a:t>Bilirubin diglucuroni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i-FI" sz="2000" spc="-1" strike="noStrike">
                  <a:solidFill>
                    <a:srgbClr val="000000"/>
                  </a:solidFill>
                  <a:latin typeface="Arial"/>
                </a:rPr>
                <a:t>(secreted in bil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043520" y="922320"/>
              <a:ext cx="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067280" y="21938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067280" y="202716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062600" y="25160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100400" y="35478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100400" y="4386240"/>
              <a:ext cx="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100400" y="55148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00400" y="526716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42920" y="3089160"/>
              <a:ext cx="19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2000" spc="-1" strike="noStrike">
                  <a:solidFill>
                    <a:srgbClr val="000000"/>
                  </a:solidFill>
                  <a:latin typeface="Arial"/>
                </a:rPr>
                <a:t>Hemoprotei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909880" y="3319200"/>
              <a:ext cx="71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2833920" y="324324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188960" y="993600"/>
              <a:ext cx="111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2000" spc="-1" strike="noStrike">
                  <a:solidFill>
                    <a:srgbClr val="000000"/>
                  </a:solidFill>
                  <a:latin typeface="Arial"/>
                </a:rPr>
                <a:t>ALAS1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319640" y="2217600"/>
              <a:ext cx="2330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i-FI" sz="2000" spc="-1" strike="noStrike">
                  <a:solidFill>
                    <a:srgbClr val="000000"/>
                  </a:solidFill>
                  <a:latin typeface="Arial"/>
                </a:rPr>
                <a:t>7 enzymatic step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273560" y="3608280"/>
              <a:ext cx="88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2000" spc="-1" strike="noStrike">
                  <a:solidFill>
                    <a:srgbClr val="000000"/>
                  </a:solidFill>
                  <a:latin typeface="Arial"/>
                </a:rPr>
                <a:t>HO-1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230720" y="4465440"/>
              <a:ext cx="90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2000" spc="-1" strike="noStrike">
                  <a:solidFill>
                    <a:srgbClr val="000000"/>
                  </a:solidFill>
                  <a:latin typeface="Arial"/>
                </a:rPr>
                <a:t>BVR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408200" y="531792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2000" spc="-1" strike="noStrike">
                  <a:solidFill>
                    <a:srgbClr val="000000"/>
                  </a:solidFill>
                  <a:latin typeface="Arial"/>
                </a:rPr>
                <a:t>UG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62600" y="26906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067280" y="18586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065480" y="287172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067280" y="236196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324000" y="260280"/>
            <a:ext cx="115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FIG. 1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8T12:08:48Z</dcterms:created>
  <dc:creator>mnia</dc:creator>
  <dc:description/>
  <dc:language>en-US</dc:language>
  <cp:lastModifiedBy>Marjo Niittynen</cp:lastModifiedBy>
  <dcterms:modified xsi:type="dcterms:W3CDTF">2008-02-25T14:51:51Z</dcterms:modified>
  <cp:revision>21</cp:revision>
  <dc:subject/>
  <dc:title>PowerPoint Presentation</dc:title>
</cp:coreProperties>
</file>